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B75-47B6-48C8-B520-BF3B1396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CEF-8E17-4C82-99F2-7E33FC40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FD82F-8F20-44D4-95BD-30F0F2E2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12AD4-F0F4-4EF7-9678-A2315344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9B70F-24E6-49CB-A8D9-A10E9458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AEB7B-FB98-4BD4-BEDA-36D87B7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49586-932E-4BDB-B670-4BE81F25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923BB-08B5-477B-AAD3-05D750D6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05536-9241-4447-BE56-53AB4FA3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EE3BB-6B7B-426F-BC6C-49CC477A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74F90-F7F4-41B6-A972-B4F2AB3C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E832C-1001-4CB8-BB59-C01784F1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EE7-98AF-4E32-BC22-E3B01B25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38D22-9D1E-461D-9EFA-8E9022D2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894AF-1766-4FD2-8D66-165E0F44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A6C96-50CF-4065-8199-3B755235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DC196-294B-487E-8DA8-A20D6C59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97F50-09A0-4E9D-B6DD-259C0D1B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C3348-7171-486F-A59B-6E913432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14F31-BF60-41DF-8D88-CB9EEDC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5B57D-C09F-4CB1-8544-9937FDB4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BE616-9E4F-4112-BC37-A46C3C37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42A5B-15E0-4228-B847-06BE02A2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EDD-05E9-4A6C-860F-E2714E1D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E99C1-3702-4247-A7D0-2D17FA2A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012E1-F27D-4FE8-928F-78FEC2FD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62DE3-8250-4097-806F-31ADB0B0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34CBF-8A85-4B14-B3BF-2A7A656C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90F6E-BA26-4694-B411-17993126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197AD-1B08-4C44-ADB2-B7C4EC0E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53EA8-1B0B-4CEF-8542-3768E277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6DACF-D8CA-4B03-98C7-1E07484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22FDD-F6D5-43D3-A013-F790E83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67874-850E-4BE0-A9B6-94C44EE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E535-A1F7-439D-8F17-CDCD986E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C178E-35AB-4B61-A298-8E5C8F27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25B49-33A2-430A-B36B-FC2ABAEB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4ABDF-DED1-42B3-878A-543F96AD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2D4C7-A9C3-4BE7-B364-71D19A20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C7A0F-0DE5-4F16-AE74-D0D38A44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47FC0-34C5-4F98-A38E-AA4B193C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CB9A0-9E33-4916-A906-1DE5C044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B0351-B397-4DF4-ABD7-AEB1AE07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75096-F45B-43F4-A324-D0F3F187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35620-F306-4DFB-97BA-6190CA52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996A-2B04-496D-89AA-D83BBBEF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44FBD-426D-4E01-AD9B-DB910502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410D2-206D-491A-8EC6-DBB3049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5CAFD-C4C6-4001-85EC-5BB3C316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35E7E-7657-43CC-87D2-63D88FDF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DC740-E29C-49A1-B013-EC840EAC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8477A-F256-4E00-956B-351177E2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A2B9B-8E0C-491C-810A-200BD171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21EBB-EDE0-486D-BB93-0494B328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3E243-153F-4805-BE5E-06E11EC0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2F60E-1987-437C-80B7-8190070C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8A2E-D18F-4B44-A003-0B8458FF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6FF6D-A9B8-44E8-85B5-F8354442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5EFF9-A451-4D6D-9D6F-DC846423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857E9-0039-4511-9DCE-E805B1F0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28125-DBB1-46E5-A3A6-605D8A30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A2767-0B89-4EFD-987B-DD7FFFEC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F992C-189F-4B08-9503-877B1BD5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BEC28-99AD-4F98-85AD-673AD1F9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D7B6B-3AD1-4F0C-A0B6-E0F284BB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30FAC-F6F7-4078-9B02-B9A7681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A9FFA-D3A5-4EFC-8C3D-8BA54EB2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D487-9424-4F78-AEDF-0029826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00992-5914-4AEF-9FBF-46B3F098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AAC0C-AB5C-4A74-B93F-68569370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2551B-CE2D-40E5-9310-40C77FFA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4FD3F-DCA3-4B6A-B206-CBEF4432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CEFBF-54FA-4039-9A0A-67A1CB3C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5A24D-8F74-411A-9A3A-7FCBC508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CF06F-6B79-403C-BB1E-B77E5D3B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6E727-E9E2-491B-931D-C02F14FC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51647-88BC-43C5-857B-C38E6EAC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71FF8-14CD-46B5-8BFB-63C8EC5C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DE6C-BB27-4A96-A2C9-32EE4C03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0EBAA-DB53-418B-90B1-3A9F0011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D3474-B6CF-49C0-B499-CA126F2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B6973-E7FC-4A04-A2C9-0000993C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BA2ED-F7D5-4CF6-B63E-03DD0487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F618E-A463-40AA-A48F-E73687B4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DD2E6-D32C-45E9-873E-1C56F78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CA9CE-ACFE-4CE6-8F75-6394E13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5A5C8-03D0-4C97-9D07-8A5529B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BD0BF-B75C-4D11-A704-1B543DC3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AC809-ECB2-4EDF-8B78-987B4F5B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B3F0-54F0-434A-A628-01559055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FC0A1-F483-4FAD-BF70-63643F74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489DC-7E61-4225-8A16-5CB73F33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93416-ADE8-4F31-832B-0BFE1A8A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95079-52F2-462E-A995-CDCD4256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62C80-30D8-4E11-8654-B8744C4F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06E4D1-F924-4A87-8CF8-589BDBE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222D0-888D-4809-9BC6-52945767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069FE-1714-4EA9-9EAE-15FDD4E6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8588E-0F65-4065-A0EE-32ACC106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897C6-8121-440C-9401-9B49D25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7700-7BD5-4F85-B385-B22D156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381DE-62C1-4EAB-9482-332AD28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78141-191F-4242-9C60-08467EA8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3C0BB-5B57-4C0C-BB25-070AABB7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2D18A-DB35-48FA-801F-D53ADFDE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75AB4-7090-4AF5-AE24-05199BC1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54210-711A-43DC-B2A2-ECB5A10F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696EA-CB55-4EC2-9022-42BB1D5E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BAB78-9920-48DC-82C9-BC791C13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6431E-A57C-4331-9567-93A758F4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3B063-7A3B-4A14-9100-3E78BD58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41C-29DC-4610-8E11-B838AAE9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A385-F89F-43F9-AAB5-B5C06852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6B295-AADA-400F-8E6E-3460ABA9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549C4-4EED-418B-9EC7-A5A53C0B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CA92F-35DD-4C6D-BEC8-A4141D09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EBB03E-C9D8-4185-9E14-E470CAC1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2340D-ED22-4C4B-B0C3-675FADF8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40992-0BB2-4C7A-B2B4-F636341A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199F7-68F1-4012-8A6E-9C1BCDF3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01841-4299-4032-B55E-BA15E130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2B0C28-AFCE-41ED-82DF-FEF395A2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D1570-A3AD-4D4F-932E-A3797E4B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FEC1-7A45-40A9-AC31-2FEF1DED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D0437-99B3-4B45-8755-C5019797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1964C-E45C-4317-A4E8-91E51DCD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29C46-116C-4C46-8C52-F83B6D6A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A2C78-4F31-43AC-8BD0-1347F8EF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B2BDF-F726-4EED-8030-35570E7D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2D16BA-F3CE-4780-9E42-7CABBD34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EFBF8-1474-4A12-96C0-29333727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98B37-5B1A-4FEE-9FD0-3AF9D8D9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EEFE5D-4CE0-49AB-A35A-976FA9EB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DAED4-32B2-42F6-AF2C-ED6D30BB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11A8-3D5E-4FFD-BDC3-18DA47C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0398A-B243-4825-8734-A48C8F23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FCBC4-2742-40CF-84BC-581013DA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E557B-A2E5-4CF8-9C7C-D51FED93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745D7E-4978-4EC6-9FEA-67584C2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ED2A0-460F-4033-ADC3-9D11988A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38F74-7F82-4B57-B1F4-18F8B18D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63BBE4-EC83-4B1D-8D73-3DC97D8F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3A85B-41E9-457B-A175-70BF09DC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9B45FB-0238-45AC-8577-C253745B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3825D-1126-4DAB-9029-E6E548FE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18D8-29C2-4F6B-9E30-B9FAAEC5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D5BB6-B7D5-44E0-AE16-42C28CF5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AD952-54A7-4792-9E2C-E1A649E4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0CC81-420B-4B3C-BAD4-51D5765B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A45B7-82C3-4A34-9A9F-A9EE5CF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01E074-F1B0-4A24-96D0-120E3DA5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C7025-228B-47E0-AFBA-8FBF980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1015E-5CB8-4A31-AE2C-AC92FABB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11555-5AC9-4B56-BBC0-40499B02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CEFC1-0A39-4AC3-8CDB-1FAA787D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B2C55-A679-48BE-B71C-BCC6E7F1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F680-9F1B-4F09-A610-1B28A70C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9C2564-5A5C-4394-903F-5D8A104C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581A5B-5101-40D2-8600-AA943067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D5495C-7BEB-4C57-8CF9-C64CFDAF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3AA119-8FA0-4E62-BD6B-9C3803D5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3E1D77-96B6-4EA8-8137-3DBD46F3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BB1F2-8CCC-43A4-812C-997F87E2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43E302-D732-4C8D-9BE8-4A1F127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8F7F63-314A-4D75-BBAC-C6055F4C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3428A5-F316-4534-AED7-5FB3B092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71BF38-FF11-4169-B78B-6E72688C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0701-C07F-4357-AAEE-38B2E59E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94722-D951-40FB-8E47-944E500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A22C12-4709-46C5-99AE-6B71256B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55243-1A30-457C-BF79-46828E4D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764C0A-0E57-4062-801D-536F37F5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B72E65-85DF-4BDE-BAB8-A7F64928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F8C3B-93F6-48EF-9EE7-04C79333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C57DEC-4097-4D21-8664-B21DC0A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7DA39C-CEE7-4343-909C-DBD7B700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DE80A-4FC3-40CF-9DD1-7F25A131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6FAA84-245E-4F8D-889B-34E16F6A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4D6A-32CA-428E-9EA0-2C68CD0D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EE4C86-9091-403B-92FF-81E119D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85407F-2C50-4928-ABBC-96F87E0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864239-D81F-4218-AF4D-F89E7B38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BE2D94-B8BD-4F55-B87F-DDED071E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CAC5BF-9226-478B-96FB-3188F39E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9A9B-E8CD-4695-B12B-8790E3A8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FD18-9164-48F7-BE63-4C85FE5A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0E1A-EB8A-4D9E-9C33-B44692D3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F39-73FA-44F4-89B0-DF1A3B2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2361-C856-4654-B7E2-CB08BCD9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20DF-14A2-47EF-B99A-AACC82F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77FE-8ABA-4EC3-B1FA-B321330D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D4A4-4981-4A97-B36E-EDC17EB6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709D-0C87-49E7-820D-7B8F4A54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3DC0-3B33-4BE6-BE1E-B89225F2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625D-67C8-4904-8B44-2AA75DBA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FC175-8794-4FD1-8A90-AAF5EC3F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F927E-E859-4565-92A2-A62133C2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47C0-1DAE-45A2-B0ED-D3FA21C4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19B-7350-416B-9F1B-9DCE6C4C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66D5-1EA8-45C5-85C6-7050882C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6908-BD33-4508-8FE8-2441938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7EF1-2A73-4DC0-81C6-67BDC0DA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E97D-9D87-465D-A1A7-5D6ECEF1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ABD1-6B82-46A3-991D-6F51916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E1CA2-9725-4002-BAF5-E7721543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82A4-65EE-4018-97F8-30D61CE8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71C2-B9F0-4D82-B72D-54B16250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7C54-E5AE-4156-86BD-0A715423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67996-46F4-496F-91B5-F7BFC04D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300-DE69-4709-9580-8F0036C1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E967-8F5E-4CC9-9A2D-5AB851D9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EC23-3558-42E4-AE5D-8769361D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8ACF2-F1A7-4418-AD7E-F75AC4E8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A86B3-602D-4995-A9A8-F8F099D6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D5D81-733D-46F1-851C-46D48C4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9D60-D6B6-4DB8-943B-9E70DC6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84B98-F386-4919-9CB2-0783A46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0F34-185F-48CB-9E07-A95CF25F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2F5D-FEE1-416F-AD7A-2722D25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BF9B-C3CA-49B6-9197-62FA7935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1F3-674B-4393-BFDF-DB28FB2E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6187-8DBA-4762-83DF-CE0A1F3F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38F65-1810-4FD5-BA9C-C69E82A3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D82E5-261B-419D-B6D4-36E4FEBF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3268-260E-4746-B012-9806685A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D2987-2C46-4E39-B6E0-06D8E5C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34EB5-756A-40B2-9357-5F7C3A6C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7B1A5-9444-4E02-9C51-B58D0841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8DBB-9E50-488E-B870-3F4F763C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B1593-0E7E-4762-8C2A-7A6DEDD1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AC106-ADF9-45AF-AF3E-0133702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D99-19B1-4CB4-93F6-7986D97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ADEBB-E4EC-4DA1-9FF7-A96894EB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0E425-3C30-46E1-8AF2-EE80FBF9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5DAA9-11A1-47C6-A7A9-0502D66F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1360-72FF-48E5-BDB9-3093AEB0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3D80E-DD85-4F62-98C8-BC4E4196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D58D5-C082-4F75-A712-16170EBE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588EE-8EA2-4883-860F-7B78BFD5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D5B28-FC12-4DE7-A745-7EE27644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BBAC-3138-47FA-95BB-821AB4F0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F8E37-08B1-438B-A38F-081290F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023-332D-45A2-B98D-BB28E4B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E995A-7D27-47B7-B17B-A812734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BFB5A-FF97-46D3-A22F-E710B288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3E7E5-9AA4-409F-9535-52C175C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4EC42-5A64-4B13-A25E-E9AA3BC5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988B-3428-4436-8DFC-513BF223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A5B0E-883C-49CA-9960-0393862A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E6D10-392A-4127-9C5D-5BA4B196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EECD1-D806-41F5-A89A-F0F56D6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74BFD-96A5-4029-B05D-1D7A0059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CB0F7-476B-4285-BB71-CABACC7E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87E-8A17-424C-B842-A88564D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1F3CD-9E85-4040-B60B-705622EF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6A1C8-D4E7-451E-AB8E-F3B756C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72624-F28E-4278-8E32-3FE450F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47DE2-372C-47E3-A534-426A34EB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A40A0-82BA-4467-A639-E5A55ED5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718E7-EBD5-4A4F-B930-7113B728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10673-C78A-4574-9207-9A3D3FD1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DEEF4-593A-4BC6-A47B-CF154C0F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ED430-53BB-4B1F-95A7-A0E9A976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3B435-C3FD-4243-98F0-562E4C61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0EEF-ED1B-49C6-9CBF-D96DF505BC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1819-DF88-4A7E-8E05-FF0BF8915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90C7-7063-4D07-AD2A-60F01C2137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870D-88CD-4A3D-873E-D9515ED15E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EBB6-FBCA-4714-AC04-D69637815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CB9F-D7D0-4EDC-9402-040787B62F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607C-C968-4793-B35A-9C2AD078C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114-34AB-4FB2-8E81-30D68A010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5CA6-D094-42BC-BF1B-729778CC4B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48C1-D6C8-4962-A86C-89DA4EB1AE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2685-959B-44B3-AD88-C0F430F93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ED51-55DC-4358-BFB7-0B5791C29E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711B-C0F4-4885-8922-16A19735C3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9F39-0A7D-4FD3-A506-955565A392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7F72-49D5-48AE-AFD1-9DB76D6E3A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B0B-A56C-456B-903D-670B1EFF38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E823-2BE1-4BD9-B444-B3DEC00FD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DA93-8755-4F7D-B3F2-24BFC22B63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18F1-A525-42B5-9DF7-DF7A6B29C6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4580-FB44-4F5D-8A3F-79EBB8F578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3CB1-88E1-4BD5-BC61-C127478B5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3542-BC4D-4AA6-8F05-A6182D2333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D45E-9F4E-49A4-8FAB-8CB46B79E2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1E13-606A-4747-90C1-6AF6BD8E20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F290-6FF5-4E67-A5C9-7ABAA4CD8E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6B02-6DB9-454A-BFB8-C49DF38A4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5274-2473-4127-97B4-4CFFF027C9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14BD-0917-442D-9E62-65C487AA9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A2A3-2647-48B6-9AD1-1E80D99D66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334E-D5AC-4381-A7AC-BD791B4097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16B-5392-40FE-A205-59077D7EA5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D29A-6BDB-48E6-83AA-ECEA63E652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0D3C-A9E0-45E0-AE41-FBBA6741C5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359F-0CF6-40BA-9A63-A87F7B7FBA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DD43-0026-48A2-BBB7-E262E9058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41D-D4A5-475B-A2BC-2ADB1C69A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B1CF-DCDE-46A7-8091-D7B829FD3C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D977-2718-40F7-9D29-BEC5FBEFA4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929B-B5C1-4AD0-9B59-8EA876F49A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132F-E38E-4CF9-A5A9-0CD0534DBE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8128-6A76-41FD-A255-E235E72EF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847880" y="3057480"/>
            <a:ext cx="54482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28440" y="1461960"/>
            <a:ext cx="9087120" cy="393408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682560" y="378792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147" descr=""/>
          <p:cNvPicPr/>
          <p:nvPr/>
        </p:nvPicPr>
        <p:blipFill>
          <a:blip r:embed="rId3"/>
          <a:stretch/>
        </p:blipFill>
        <p:spPr>
          <a:xfrm>
            <a:off x="684360" y="4363920"/>
            <a:ext cx="1877760" cy="42732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148" descr=""/>
          <p:cNvPicPr/>
          <p:nvPr/>
        </p:nvPicPr>
        <p:blipFill>
          <a:blip r:embed="rId4"/>
          <a:stretch/>
        </p:blipFill>
        <p:spPr>
          <a:xfrm>
            <a:off x="684360" y="4911840"/>
            <a:ext cx="1877760" cy="42696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149" descr=""/>
          <p:cNvPicPr/>
          <p:nvPr/>
        </p:nvPicPr>
        <p:blipFill>
          <a:blip r:embed="rId5"/>
          <a:stretch/>
        </p:blipFill>
        <p:spPr>
          <a:xfrm>
            <a:off x="3706920" y="3787920"/>
            <a:ext cx="1877760" cy="42696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6150" descr=""/>
          <p:cNvPicPr/>
          <p:nvPr/>
        </p:nvPicPr>
        <p:blipFill>
          <a:blip r:embed="rId6"/>
          <a:stretch/>
        </p:blipFill>
        <p:spPr>
          <a:xfrm>
            <a:off x="3722760" y="4363920"/>
            <a:ext cx="1878120" cy="42732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151" descr=""/>
          <p:cNvPicPr/>
          <p:nvPr/>
        </p:nvPicPr>
        <p:blipFill>
          <a:blip r:embed="rId7"/>
          <a:stretch/>
        </p:blipFill>
        <p:spPr>
          <a:xfrm>
            <a:off x="3722760" y="4911840"/>
            <a:ext cx="18781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7169" descr=""/>
          <p:cNvPicPr/>
          <p:nvPr/>
        </p:nvPicPr>
        <p:blipFill>
          <a:blip r:embed="rId1"/>
          <a:stretch/>
        </p:blipFill>
        <p:spPr>
          <a:xfrm>
            <a:off x="299880" y="1619280"/>
            <a:ext cx="8544240" cy="3619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1619280" y="20908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3780000" y="21193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5881680" y="2119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8042400" y="20890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6"/>
          <a:stretch/>
        </p:blipFill>
        <p:spPr>
          <a:xfrm>
            <a:off x="161928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7"/>
          <a:stretch/>
        </p:blipFill>
        <p:spPr>
          <a:xfrm>
            <a:off x="387972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8"/>
          <a:stretch/>
        </p:blipFill>
        <p:spPr>
          <a:xfrm>
            <a:off x="6012000" y="2492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9"/>
          <a:stretch/>
        </p:blipFill>
        <p:spPr>
          <a:xfrm>
            <a:off x="8042400" y="2492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0"/>
          <a:stretch/>
        </p:blipFill>
        <p:spPr>
          <a:xfrm>
            <a:off x="1403280" y="3889440"/>
            <a:ext cx="741672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8193" descr=""/>
          <p:cNvPicPr/>
          <p:nvPr/>
        </p:nvPicPr>
        <p:blipFill>
          <a:blip r:embed="rId1"/>
          <a:stretch/>
        </p:blipFill>
        <p:spPr>
          <a:xfrm>
            <a:off x="747720" y="1047600"/>
            <a:ext cx="7648560" cy="476280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8194" descr=""/>
          <p:cNvPicPr/>
          <p:nvPr/>
        </p:nvPicPr>
        <p:blipFill>
          <a:blip r:embed="rId2"/>
          <a:stretch/>
        </p:blipFill>
        <p:spPr>
          <a:xfrm>
            <a:off x="1849320" y="292428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8195" descr=""/>
          <p:cNvPicPr/>
          <p:nvPr/>
        </p:nvPicPr>
        <p:blipFill>
          <a:blip r:embed="rId3"/>
          <a:stretch/>
        </p:blipFill>
        <p:spPr>
          <a:xfrm>
            <a:off x="5925960" y="292428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5"/>
          <a:stretch/>
        </p:blipFill>
        <p:spPr>
          <a:xfrm>
            <a:off x="7164360" y="530064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8:2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